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1D7F-4E5C-4B76-A0F4-93EBD7DE68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878-EBD0-4BAE-971E-AD4E0C0D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2D8-75FE-412F-A5E1-76AFE67B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4E4-9CC8-479C-9E74-FA83B0BB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BFA-773A-467F-9367-454B2D17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490-183B-4B93-8FFA-07FD2223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2C6-5416-415B-BC7D-8C4E74BF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F6F-1B3C-4AD3-8C84-62A3DE82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A67-D7BC-42A3-AC79-A48362D1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1C3-1A9C-42A5-A6BE-73EB6467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31D-5373-428F-8707-92688225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381-EE52-4701-96E5-1482E76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0DB-D7FE-43EA-AF0F-DD601824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F091-79C6-4C08-B43F-F2CCB66BC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best guess at figuring out the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i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out using a calculator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2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 is the clos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29:32Z</dcterms:created>
  <dc:creator>administrator</dc:creator>
  <dc:description/>
  <dc:language>en-US</dc:language>
  <cp:lastModifiedBy>RomaK</cp:lastModifiedBy>
  <dcterms:modified xsi:type="dcterms:W3CDTF">2015-09-03T12:28:25Z</dcterms:modified>
  <cp:revision>5</cp:revision>
  <dc:subject/>
  <dc:title>Guestimate that side</dc:title>
</cp:coreProperties>
</file>